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62A-4186-42CE-A7A6-2F9396D3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3B0-6BCE-44E9-928F-77E4FE97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D67-FAFA-41C7-8032-0706845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3F6-322B-41C1-9732-A1E2FCA6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143F-3841-45D2-8216-2A3B225D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BDF0-802E-4298-B348-7C49C24F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5E0C-68F7-467C-88C9-1A1F9BBF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CFC7-B61B-4521-A68F-C0B12D15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5978-5989-445C-A365-5CBF768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D930-E941-4F83-8A6F-7DBB667F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2188-C9E8-41C0-9AF7-6E71784D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29C-0A4A-41E9-A825-BFA5849C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8C42-7ADE-4EB8-8C54-D224694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443F-714A-41BB-91CF-B33E4031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7C60-33AC-4A3C-ADA2-FCD8FF4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EB5C-CED8-42A4-A9B3-64AF815B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5E4B-A0FB-46C8-B670-700980C7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350-9A0A-4787-B1B9-52E51C2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953-5799-4D42-B907-0B2E833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1F9-F528-44E9-A269-D133AC1E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74E-83CE-4094-BF05-2442EA43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CFA-A1BE-41F4-BB3C-0E5B58E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A7D-F30F-406B-A507-524CC21E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2E3-B37B-4EA6-802C-A7541FF3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C7CA-E6DF-4517-B87B-C030124CDB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3817-0C36-4EA9-88D1-212E45582B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English111 Vivace BT"/>
              </a:rPr>
              <a:t>Restaura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English111 Vivace BT"/>
              </a:rPr>
              <a:t>“</a:t>
            </a:r>
            <a:r>
              <a:rPr b="1" i="1" lang="fr-FR" sz="5400" spc="-1" strike="noStrike">
                <a:solidFill>
                  <a:srgbClr val="ffffff"/>
                </a:solidFill>
                <a:latin typeface="English111 Vivace BT"/>
              </a:rPr>
              <a:t>Château d’Avignon </a:t>
            </a:r>
            <a:r>
              <a:rPr b="1" lang="es-ES" sz="5400" spc="-1" strike="noStrike">
                <a:solidFill>
                  <a:srgbClr val="ffffff"/>
                </a:solidFill>
                <a:latin typeface="English111 Vivace BT"/>
              </a:rPr>
              <a:t> 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46560" y="549360"/>
            <a:ext cx="26146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dddddd"/>
                </a:solidFill>
                <a:latin typeface="English111 Vivace BT"/>
              </a:rPr>
              <a:t>Concept</a:t>
            </a:r>
            <a:endParaRPr b="0" lang="en-US" sz="8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hic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pécialités françai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Vins régionaux que se marient parfaitement avec cette cuisine inspir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Offre des prestations d'un haut niveau, vue exceptionnelle et qualité de service d'un autre te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80 couvert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lients de l'hôtel et exter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ieu de rencontre pour les artistes et les entreprene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dddddd"/>
                </a:solidFill>
                <a:latin typeface="English111 Vivace BT"/>
              </a:rPr>
              <a:t>Décoration</a:t>
            </a:r>
            <a:r>
              <a:rPr b="0" lang="es-ES" sz="8800" spc="-1" strike="noStrike">
                <a:solidFill>
                  <a:srgbClr val="dddddd"/>
                </a:solidFill>
                <a:latin typeface="English111 Vivace BT"/>
              </a:rPr>
              <a:t> et Musique</a:t>
            </a:r>
            <a:endParaRPr b="0" lang="en-US" sz="8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rès travaillé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Bâtisse ancien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uleurs apaisan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vironnement ca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tmosphère de début du XXe siècl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Musique liv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résentations de pianistes et chanteurs con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ahoma"/>
              </a:rPr>
              <a:t>Heures du restaurant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undi à vendredi : 7:00 à 23: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amedi et Dimanche: 8:00 à 24:00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artes de crédit accepté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0e0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Ouvert toute l'ann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ddddd"/>
                </a:solidFill>
                <a:latin typeface="English111 Vivace BT"/>
              </a:rPr>
              <a:t>Carte</a:t>
            </a:r>
            <a:endParaRPr b="0" lang="en-US" sz="8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1349280"/>
            <a:ext cx="8353440" cy="543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ddddd"/>
                </a:solidFill>
                <a:latin typeface="English111 Vivace BT"/>
              </a:rPr>
              <a:t>Interview: Chef Eric Frechon</a:t>
            </a:r>
            <a:endParaRPr b="0" lang="en-US" sz="6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3280" y="915840"/>
            <a:ext cx="4219560" cy="596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20516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dddddd"/>
                </a:solidFill>
                <a:latin typeface="English111 Vivace BT"/>
              </a:rPr>
              <a:t>Recette:</a:t>
            </a:r>
            <a:r>
              <a:rPr b="0" lang="fr-FR" sz="4400" spc="-1" strike="noStrike">
                <a:solidFill>
                  <a:srgbClr val="dddddd"/>
                </a:solidFill>
                <a:latin typeface="English111 Vivace BT"/>
              </a:rPr>
              <a:t> “Mousse Rouzanna au Chocolat Noir”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20901000">
            <a:off x="395280" y="2491920"/>
            <a:ext cx="5477040" cy="3648240"/>
          </a:xfrm>
          <a:prstGeom prst="rect">
            <a:avLst/>
          </a:prstGeom>
          <a:ln w="28440">
            <a:solidFill>
              <a:srgbClr val="130e07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940360" y="1916280"/>
            <a:ext cx="2879640" cy="490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Tahoma"/>
              </a:rPr>
              <a:t>*Pour 4 personnes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English111 Vivace BT"/>
              </a:rPr>
              <a:t>F</a:t>
            </a:r>
            <a:r>
              <a:rPr b="0" lang="fr-FR" sz="1600" spc="-1" strike="noStrike">
                <a:solidFill>
                  <a:srgbClr val="5f5f5f"/>
                </a:solidFill>
                <a:latin typeface="Tahoma"/>
              </a:rPr>
              <a:t>ouettez longuement 12 jaunes d’œufs et versez-y 250 g de chocolat noir fond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English111 Vivace BT"/>
              </a:rPr>
              <a:t>I</a:t>
            </a:r>
            <a:r>
              <a:rPr b="0" lang="fr-FR" sz="1600" spc="-1" strike="noStrike">
                <a:solidFill>
                  <a:srgbClr val="5f5f5f"/>
                </a:solidFill>
                <a:latin typeface="Tahoma"/>
              </a:rPr>
              <a:t>ncorporez délicatement à la spatule 12 blancs d’œufs en neige bien fer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English111 Vivace BT"/>
              </a:rPr>
              <a:t>T</a:t>
            </a:r>
            <a:r>
              <a:rPr b="0" lang="fr-FR" sz="1600" spc="-1" strike="noStrike">
                <a:solidFill>
                  <a:srgbClr val="5f5f5f"/>
                </a:solidFill>
                <a:latin typeface="Tahoma"/>
              </a:rPr>
              <a:t>erminez en glissant dans la mousse des coupeaux de chocolat réalisés avec un couteau écono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English111 Vivace BT"/>
              </a:rPr>
              <a:t>L</a:t>
            </a:r>
            <a:r>
              <a:rPr b="0" lang="fr-FR" sz="1600" spc="-1" strike="noStrike">
                <a:solidFill>
                  <a:srgbClr val="5f5f5f"/>
                </a:solidFill>
                <a:latin typeface="Tahoma"/>
              </a:rPr>
              <a:t>aissez la mousse prendre une nuit au réfrigérateur avant de la servi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6:48:31Z</dcterms:created>
  <dc:creator>Usuario</dc:creator>
  <dc:description/>
  <dc:language>en-US</dc:language>
  <cp:lastModifiedBy>Usuario</cp:lastModifiedBy>
  <dcterms:modified xsi:type="dcterms:W3CDTF">2011-05-12T17:57:44Z</dcterms:modified>
  <cp:revision>4</cp:revision>
  <dc:subject/>
  <dc:title>Diapositiva 1</dc:title>
</cp:coreProperties>
</file>